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BAEE-8B7C-484A-B9FD-BE618FE7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339D-B9AF-4BF5-88A7-05D4565C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8A29-6035-40F7-831C-F6AFDCE1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2BFC-AB69-4420-9329-94BD4863A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28A4-3B51-4653-800E-BA8FEF26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55F4-03E1-4AC6-BF65-FBFEF407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5BD3-2AEE-4981-AA3A-24EC3B08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52D3-217E-4033-A496-7D903E57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59B8-785E-48C5-B02E-4D7AD5A4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7532-9E76-4B63-A53C-1A65D625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E4A5-1BA6-4A71-9087-45BEC05E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534C-E454-4ACB-AAC1-252117C4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E1EC-DD0A-4798-B566-87EA0F43C50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37ED-9DCB-4222-B351-A0B5B0C66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7A07-3A4B-40CA-9D3E-5DE50FEC9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4000" spc="-1" strike="noStrike">
                <a:solidFill>
                  <a:srgbClr val="660033"/>
                </a:solidFill>
                <a:latin typeface="Arial"/>
              </a:rPr>
              <a:t>Cooperation and Collaboration</a:t>
            </a:r>
            <a:br>
              <a:rPr sz="2800"/>
            </a:b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62320" y="58672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7543800" y="303120"/>
            <a:ext cx="11872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CF8D-FECB-498F-9581-8D20F7FCB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Quick Win Partnership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GIAR – ILRI / ICARDA / ICRAF / IWMI / CIMMY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RS – EIAR, OR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ademia – Addis Ababa, Bahir Dar, Arba Minch, Mekele Univers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GO – Farm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development initiatives –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Gaps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673F-5C42-4BCE-B353-1881706E4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GIAR – CI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RS – Other regional research bo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ademia –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GOs –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development initiatives – AGP etc. ATA,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Why Partnerships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ngthen research capacity / syn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re-inventing wheels or inventing new wheels with flat t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nding the research in development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portunities for sc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CF87-4A98-4F36-8CB2-3BC29A7A6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6T08:46:02Z</dcterms:modified>
  <cp:revision>79</cp:revision>
  <dc:subject/>
  <dc:title>PowerPoint Presentation</dc:title>
</cp:coreProperties>
</file>